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F02-0231-4D64-900C-012F9A49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B46-938D-421B-88F2-F25DFD92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308-A1BE-4168-8D4B-89288D3A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ACB2-6885-4ABC-AA55-8E81C74E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CAB-D19A-4FAC-9F7B-79AD9F1C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4BA-A0C6-4194-B13D-1FA3C71F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210-6740-4556-A945-6F2E9666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B7C-CB53-4B93-963C-DF3AFFD4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0F6-F932-404A-ACCC-1955F6C3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ACC-EE88-46F5-9D02-4B8077A1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6FF-7E91-4E9C-A6CB-634F1F79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0E7-E313-4097-B1CA-85F6A514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87C3-777A-4F55-AE76-475CC2F9B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4120" y="216000"/>
            <a:ext cx="23702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040" y="782640"/>
            <a:ext cx="859464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Get the packet by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Sit anywhere...for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Begin to fill out the “Who I Am”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Please hurry. We use time well in th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43160" y="3013200"/>
            <a:ext cx="4743360" cy="356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4572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EXPEC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040" y="31896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12920" y="32220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03320" y="29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65400" y="24638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5400" y="662940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5400" y="55879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5400" y="45464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65400" y="35035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483876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4. BE A PARTICIP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797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3. BE PREPA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1714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1. BE PRE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2755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2. BE PROM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5881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5. BE POL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82880" y="31752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ITEMS EVERYDAY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75040" y="31896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12920" y="32220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22860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65400" y="24638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65400" y="55879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65400" y="45464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5400" y="35035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08160" y="4838760"/>
            <a:ext cx="57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4. LAB NOTEBOOK $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08160" y="3797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3. PEN/PENC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08160" y="1714680"/>
            <a:ext cx="52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1. NOTEBOOK/BI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08160" y="2755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2. CALCULA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03320" y="29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882880" y="314316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ATEGORIES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75040" y="314496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12920" y="314784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05424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5400" y="528948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65400" y="63295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08160" y="45403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60% QUIZ/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08160" y="5581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40% LAB/HW/C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03320" y="3117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14400" y="214200"/>
            <a:ext cx="6219720" cy="1971720"/>
            <a:chOff x="914400" y="214200"/>
            <a:chExt cx="6219720" cy="1971720"/>
          </a:xfrm>
        </p:grpSpPr>
        <p:sp>
          <p:nvSpPr>
            <p:cNvPr id="81" name=""/>
            <p:cNvSpPr/>
            <p:nvPr/>
          </p:nvSpPr>
          <p:spPr>
            <a:xfrm>
              <a:off x="2050200" y="214200"/>
              <a:ext cx="508392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07800" y="644400"/>
              <a:ext cx="1713960" cy="110988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4400" y="542160"/>
              <a:ext cx="2322360" cy="14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88840" y="627120"/>
            <a:ext cx="23180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17640" y="26496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LATE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SSIGN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22560" y="85716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BATHROOM PASS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1760" y="858960"/>
            <a:ext cx="515160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86184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7440" y="768240"/>
            <a:ext cx="23180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30400" y="83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143000" y="3505320"/>
            <a:ext cx="6219720" cy="1971720"/>
            <a:chOff x="1143000" y="3505320"/>
            <a:chExt cx="6219720" cy="1971720"/>
          </a:xfrm>
        </p:grpSpPr>
        <p:sp>
          <p:nvSpPr>
            <p:cNvPr id="92" name=""/>
            <p:cNvSpPr/>
            <p:nvPr/>
          </p:nvSpPr>
          <p:spPr>
            <a:xfrm>
              <a:off x="2278800" y="3505320"/>
              <a:ext cx="508392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36400" y="3935520"/>
              <a:ext cx="1713960" cy="110988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3000" y="3833280"/>
              <a:ext cx="2322360" cy="14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117440" y="3917880"/>
            <a:ext cx="23180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82880" y="365112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GRADE FOR CHEATING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1190520"/>
            <a:ext cx="80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WHA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IS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PHYSICS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1:35:13Z</dcterms:created>
  <dc:creator>Frank Noschese</dc:creator>
  <dc:description/>
  <dc:language>en-US</dc:language>
  <cp:lastModifiedBy>Frank Noschese</cp:lastModifiedBy>
  <dcterms:modified xsi:type="dcterms:W3CDTF">2008-09-03T00:43:32Z</dcterms:modified>
  <cp:revision>17</cp:revision>
  <dc:subject/>
  <dc:title>Slide 1</dc:title>
</cp:coreProperties>
</file>